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B5F-462A-4DF4-8822-130DE8E0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300-B4E6-485F-A66D-BB1867F7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18B-25AD-40BD-A6B9-4164427B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E332-7294-4156-834F-03D0849E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32A-2667-4B1D-A451-1597AE02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F06-CAC1-4B5A-B449-A61B1D2C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9DF-5E72-4B46-833A-8CF03D72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60A-2B5B-48E4-9A60-743F6D8B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545-3A21-4C6A-A10B-25C5ACE3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0419-71F4-4F60-A901-D31A06C5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4D0-E902-48CF-8903-9FF11F33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95D3-6F6B-4597-AD4E-91805E4B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18C4-3EA0-4E63-A7FF-535DCC089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affect of adding hot water to cold water on the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rah Fotherg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odey Wambo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500"/>
                            </p:stCondLst>
                            <p:childTnLst>
                              <p:par>
                                <p:cTn id="3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urpose and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Purpose- To see if adding different temperatures of hot water affects the temperature of really cold water, when mixed togeth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Hypothesis- The temperature will increase slowly as the amount of hot water increas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7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6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4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5" dur="3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7000"/>
                            </p:stCondLst>
                            <p:childTnLst>
                              <p:par>
                                <p:cTn id="68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9000"/>
                            </p:stCondLst>
                            <p:childTnLst>
                              <p:par>
                                <p:cTn id="72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Independent Variable, Levels and Dependent Var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dependent Variable- Time (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vel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pendent Variable- Temperature (Degrees Celsi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8120" y="2514600"/>
          <a:ext cx="3078000" cy="2060640"/>
        </p:xfrm>
        <a:graphic>
          <a:graphicData uri="http://schemas.openxmlformats.org/drawingml/2006/table">
            <a:tbl>
              <a:tblPr/>
              <a:tblGrid>
                <a:gridCol w="1377720"/>
                <a:gridCol w="505440"/>
                <a:gridCol w="460080"/>
                <a:gridCol w="519840"/>
                <a:gridCol w="216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i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pic>
        <p:nvPicPr>
          <p:cNvPr id="5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6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7500"/>
                            </p:stCondLst>
                            <p:childTnLst>
                              <p:par>
                                <p:cTn id="9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6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0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4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Const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The amount of water started wi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The amount of water ad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Both of the beake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The type of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The burner and burner st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The lab equipme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1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1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6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lab equipment out as follow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rmometer              Graduated Cyl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emperature Sensor                   Compu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lcohol Burner             Alcohol Burner 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 Be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t up the lab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asure 50 mL. of cold wat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asure 50 mL. of tepid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t beaker 2 on the burner stan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ur the water into beaker 1 and pour the tepid water into beaker 2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ght the alcohol burn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ery 2 minutes add 10 mL. of the hot wat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rd your data onto a tabl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fter completing 2 trials clean up the lab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50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5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00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5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36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6000"/>
                            </p:stCondLst>
                            <p:childTnLst>
                              <p:par>
                                <p:cTn id="24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6500"/>
                            </p:stCondLst>
                            <p:childTnLst>
                              <p:par>
                                <p:cTn id="252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5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7000"/>
                            </p:stCondLst>
                            <p:childTnLst>
                              <p:par>
                                <p:cTn id="256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5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7500"/>
                            </p:stCondLst>
                            <p:childTnLst>
                              <p:par>
                                <p:cTn id="260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8000"/>
                            </p:stCondLst>
                            <p:childTnLst>
                              <p:par>
                                <p:cTn id="264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8500"/>
                            </p:stCondLst>
                            <p:childTnLst>
                              <p:par>
                                <p:cTn id="268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9000"/>
                            </p:stCondLst>
                            <p:childTnLst>
                              <p:par>
                                <p:cTn id="272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3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9500"/>
                            </p:stCondLst>
                            <p:childTnLst>
                              <p:par>
                                <p:cTn id="276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7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00"/>
                            </p:stCondLst>
                            <p:childTnLst>
                              <p:par>
                                <p:cTn id="280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81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500"/>
                            </p:stCondLst>
                            <p:childTnLst>
                              <p:par>
                                <p:cTn id="284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85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1000"/>
                            </p:stCondLst>
                            <p:childTnLst>
                              <p:par>
                                <p:cTn id="288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89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1500"/>
                            </p:stCondLst>
                            <p:childTnLst>
                              <p:par>
                                <p:cTn id="292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93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2000"/>
                            </p:stCondLst>
                            <p:childTnLst>
                              <p:par>
                                <p:cTn id="296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97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2500"/>
                            </p:stCondLst>
                            <p:childTnLst>
                              <p:par>
                                <p:cTn id="300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01" dur="5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3000"/>
                            </p:stCondLst>
                            <p:childTnLst>
                              <p:par>
                                <p:cTn id="304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05" dur="5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308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09" dur="500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295280"/>
          <a:ext cx="8229600" cy="51786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Time (min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Trial 1 temperature of water added (Degrees Celsi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Trial 1 temperature of wat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(Degrees Celsi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Trial 2 temperature of water added (Degrees Celsi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Trial 2 temperature of water added (Degrees Celsi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The Starting temperature of the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(Degrees Celsi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None ad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None ad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5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8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8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8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5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8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5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40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The temperature was at highest 101 degrees Celsius for both trial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The temperature was at lowest 29.1 degrees Celsius for both trial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The temperature of the water after the hot water was added was at highest 52.3 degrees Celsius and at lowest 4.6 degrees Celsiu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6104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20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ypothesis was correct because as hot water was added the temperature did increase as we had sai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 happened because hot water has more thermal energy than the tepid wa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14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rmal energy was being transferred to the cold water the particles of the hot water that was added slowed dow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ticles of the cold water sped up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process called thermal equilibriu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6104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7" dur="15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16:34:39Z</dcterms:created>
  <dc:creator>default</dc:creator>
  <dc:description/>
  <dc:language>en-US</dc:language>
  <cp:lastModifiedBy>default</cp:lastModifiedBy>
  <dcterms:modified xsi:type="dcterms:W3CDTF">2008-01-08T18:02:11Z</dcterms:modified>
  <cp:revision>13</cp:revision>
  <dc:subject/>
  <dc:title>The affect of adding hot water to cold water on the temperature</dc:title>
</cp:coreProperties>
</file>